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B62-8B8D-4FCF-A479-21695825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D51-BCC5-4449-AD96-67B9814F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863-D7DC-4CEC-B270-B79A380A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478-221B-4653-9DC5-59BEB60E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DB9-1D44-4A5B-B2E2-3E0A77F9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6EB-EB1A-42E9-9AC9-3D4FB255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2D9-D383-4ED7-84F7-78C1B7A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3FB-5AB2-4C45-8A46-78A7A366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DBD-75CB-4DC3-A7A5-037CA23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B7C-161E-4590-BD42-AF03EA19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7C4-EBFE-455C-9D89-5D420EE5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609-ECE9-41C8-9677-8138E627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935D-A3EB-4A6B-8E1F-1FEB86604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2-2 da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tomic Mass – an average of all the elements’ isotopes (different # of neutrons compared to prot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Elements – 3 main cla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etals – majority of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743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good conductors of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2004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lid at room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657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are malleable (can be sha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114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ost are ductile (drawn into thin w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und left of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t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145200" cy="213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3429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metals = elements in groups 3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8862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rm a bridge between elements on the left side and right side of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7242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have more properties in common than elements in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metals: mercury, aluminum, copper, nicke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,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onmetals – to the right of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t2" descr=""/>
          <p:cNvPicPr/>
          <p:nvPr/>
        </p:nvPicPr>
        <p:blipFill>
          <a:blip r:embed="rId1"/>
          <a:stretch/>
        </p:blipFill>
        <p:spPr>
          <a:xfrm>
            <a:off x="0" y="1828800"/>
            <a:ext cx="8991720" cy="270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4343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oor conductors of electricity/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80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many are gasses at room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181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physical/chemical properties vary grea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nonmetals: flourine (most rea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219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ur, oxygen, h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Metalloids – the elements that form the stair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905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all between metals and non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362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hare characteristics of both metals and non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3048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ommon metalloids:  silicon, Ars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581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 across a period – properties within a period change in similar ways from left to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2670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across a period (from L to R) the elements become less metallic and more non-metallic in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20:54Z</dcterms:created>
  <dc:creator>Farwell Area Schools</dc:creator>
  <dc:description/>
  <dc:language>en-US</dc:language>
  <cp:lastModifiedBy>Farwell Area Schools</cp:lastModifiedBy>
  <dcterms:modified xsi:type="dcterms:W3CDTF">2008-09-19T18:39:13Z</dcterms:modified>
  <cp:revision>7</cp:revision>
  <dc:subject/>
  <dc:title>Note Guide 2-2 day 2</dc:title>
</cp:coreProperties>
</file>